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4A17-19E0-4C9D-BC9B-628944496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2A00-2D59-4281-BB5D-B8AEB64F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C0AB-7153-40BA-AD15-00C326E14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38EE-90B0-4AA9-98E6-B37D32E68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2B0D-46B8-46D0-9C31-B8B0302A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909C-EB28-480F-82DE-796590A1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FAF4-F0E0-443A-83E6-159B8A07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906C-FC57-4A35-8106-C14FC0A6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063C-A435-4F11-8834-10A9B700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A1FB-2082-4618-ACA8-0CBD0FFE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0DBB-86AE-4CAE-BBCE-85A52611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C229-672C-484C-9A6F-4254A7AA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DFBA-75F2-43B6-895D-CDB7F414E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e socc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 soccer est mon sport préféré parce qu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’est un sport d’équipe et j’en profite pour rencontrer mes am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 le pratique de manière ludique ou compétiti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Je le pratique pour le plaisir, mais il arrive que mon équipe joue contre l’équipe du village d’à côt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5:27:27Z</dcterms:created>
  <dc:creator>Generic</dc:creator>
  <dc:description/>
  <dc:language>en-US</dc:language>
  <cp:lastModifiedBy>Marie-Pier</cp:lastModifiedBy>
  <dcterms:modified xsi:type="dcterms:W3CDTF">2007-11-20T17:52:45Z</dcterms:modified>
  <cp:revision>8</cp:revision>
  <dc:subject/>
  <dc:title>Le chien</dc:title>
</cp:coreProperties>
</file>